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676-92A1-4350-A996-7B59CBE3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B85-4CFA-4DA8-B04B-ABA1DE23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3AC-AB65-43FF-997C-03B9AAB3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218-3E72-46F6-9FE0-20556231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540-42CE-45E0-9F53-6194F573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7EF-0AE8-470E-9B18-89084C9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2F9-7FEB-4701-A787-C4DBACE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7DF-59FB-474D-AA32-D65FB7E2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23F-6EDE-4692-BEFD-4F6F0A4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4A8-696E-4EA9-B5B2-34A07D7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6C3-B6BC-4361-8B11-0FEA6B9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2CC-4A99-4F72-B524-E8078BD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FC43-BA7F-4E67-B23A-A57656F9E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1ofakindgifts.com/products/shrek_chd.jpg&amp;imgrefurl=http://www.1ofakindgifts.com/Childs-Shrek-Mask.html&amp;usg=__NveBOJgEiX3YU7M1G8Mii8aM2e4=&amp;h=298&amp;w=331&amp;sz=17&amp;hl=en&amp;start=63&amp;sig2=miPORe86TheXb_HAyXj9yQ&amp;tbnid=BJENoe6CL43JPM:&amp;tbnh=107&amp;tbnw=119&amp;prev=/images%3Fq%3DHalloween%2Bmask%2Bchildren%26gbv%3D2%26ndsp%3D20%26hl%3Den%26sa%3DN%26start%3D60&amp;ei=2_XoStKzFqHKswOM6IjZC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masks-wigs-and-costumes.com/Masks/images/pinocchio_mask.jpg&amp;imgrefurl=http://www.masks-wigs-and-costumes.com/Masks/character.asp&amp;usg=__34KYDnOrvR0NyFpYECrssUqS-UE=&amp;h=2645&amp;w=1945&amp;sz=1830&amp;hl=en&amp;start=22&amp;sig2=FH2ruIp_QK6IWZnhm8HCOA&amp;tbnid=uHs8kWpKMgjdqM:&amp;tbnh=150&amp;tbnw=110&amp;prev=/images%3Fq%3Dmasks%2Bcharacters%26gbv%3D2%26ndsp%3D20%26hl%3Den%26sa%3DN%26start%3D20&amp;ei=ffjoSozhGIicswOXtNDWCA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mooncostumes.com/image/10737&amp;imgrefurl=http://www.mooncostumes.com/item/10737&amp;usg=__ALL4_xt5MKyVFxwd6UippuB26Hg=&amp;h=430&amp;w=360&amp;sz=48&amp;hl=en&amp;start=47&amp;sig2=gBh_T2ohFnu5Wl-ts4_sAA&amp;tbnid=10l-o6n4LiwvPM:&amp;tbnh=126&amp;tbnw=105&amp;prev=/images%3Fq%3Dmasks%2Bcharacters%26gbv%3D2%26ndsp%3D20%26hl%3Den%26sa%3DN%26start%3D40&amp;ei=ovjoSovsJ5qCtgPb1fXWCA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y-image1.etsy.com/il_430xN.91086053.jpg&amp;imgrefurl=http://www.etsy.com/view_listing.php%3Flisting_id%3D31119939&amp;usg=__V0EWXLlKPz5f_15ayjrlXojEPWg=&amp;h=448&amp;w=430&amp;sz=38&amp;hl=en&amp;start=127&amp;sig2=wFvQlFIbhfQi3IWLezZhMg&amp;tbnid=ErdA4SaFW9QuBM:&amp;tbnh=127&amp;tbnw=122&amp;prev=/images%3Fq%3DHalloween%2Bmask%2Bchildren%26gbv%3D2%26ndsp%3D20%26hl%3Den%26sa%3DN%26start%3D120&amp;ei=M_boSrO4CaiQtAP8h8HoCA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squidoo.com/resize/squidoo_images/-1/lens2181421_1227086408Masquerade_Party_Mask.jpg&amp;imgrefurl=http://www.squidoo.com/Fancy-Dress-Party-Wigs&amp;usg=__yFiPvNGTNmHoKNDH2FlN81fkeXc=&amp;h=250&amp;w=250&amp;sz=55&amp;hl=en&amp;start=11&amp;sig2=FFB7_GsoSu0FNfqK9bOMtQ&amp;tbnid=QM3f77xbVz11RM:&amp;tbnh=111&amp;tbnw=111&amp;prev=/images%3Fq%3Dmasks%2Bmasquerade%26gbv%3D2%26hl%3Den&amp;ei=dfboSqeCKIfktAPo8KXjCA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polyvore.com/cgi/img-thing%3F.out%3Djpg%26size%3Dl%26tid%3D3836258&amp;imgrefurl=http://www.polyvore.com/female_red_gold_masquerade_mask/thing%3Fid%3D3836258&amp;usg=__FimTT5nIITMrJRUtOdpKkwA_Sxk=&amp;h=300&amp;w=300&amp;sz=19&amp;hl=en&amp;start=17&amp;sig2=vl5Fde9_YOMdi_Y9xYj6vA&amp;tbnid=19_-yajVu-Q7JM:&amp;tbnh=116&amp;tbnw=116&amp;prev=/images%3Fq%3Dmasks%2Bmasquerade%26gbv%3D2%26hl%3Den&amp;ei=dfboSqeCKIfktAPo8KXjCA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rb043.k12.sd.us/7th_gr4.jpg&amp;imgrefurl=http://rb043.k12.sd.us/7th_grade.htm&amp;usg=__a1nC3xpwFtXS6gBXVcWJjoSyDlw=&amp;h=487&amp;w=380&amp;sz=23&amp;hl=en&amp;start=8&amp;sig2=8P5JUbEHMebIPSTiPTXY3A&amp;tbnid=w28THWRyiRg8GM:&amp;tbnh=129&amp;tbnw=101&amp;prev=/images%3Fq%3Dmasks%2Bfrom%2Baround%2Bthe%2Bworld%26gbv%3D2%26hl%3Den&amp;ei=FvfoSuqnK6PKswOWgLXZCA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img.designswan.com/2009/Art/mask/7.jpg&amp;imgrefurl=http://www.designswan.com/archives/tag/culture&amp;usg=__1cK2FbgO8FtqKU4tsDG-6wOYqWI=&amp;h=409&amp;w=500&amp;sz=76&amp;hl=en&amp;start=96&amp;sig2=klIacBVtcanZ6qqjKirFCA&amp;tbnid=HmfMoyk9xtM8KM:&amp;tbnh=106&amp;tbnw=130&amp;prev=/images%3Fq%3Dmasks%2Bfrom%2Baround%2Bthe%2Bworld%26gbv%3D2%26ndsp%3D20%26hl%3Den%26sa%3DN%26start%3D80&amp;ei=cffoSriAKoOUtgOa4fXgCA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elgineagles.org/vimages/shared/vnews/stories/490f76bc7ac94/1_490f76bc7ac94-68-1.jpg&amp;imgrefurl=http://elgineagles.org/vnews/display.v/ART/2008/11/03/490f76bc7ac94&amp;usg=__KNbDlgC6HPu7c6N2xMcWiEUzeFU=&amp;h=480&amp;w=319&amp;sz=49&amp;hl=en&amp;start=78&amp;sig2=DA1eMhsrA9AfGwNcVzxSAw&amp;tbnid=VGyXLQFVHCTfMM:&amp;tbnh=129&amp;tbnw=86&amp;prev=/images%3Fq%3Dmasks%2Bdesigns%26gbv%3D2%26ndsp%3D20%26hl%3Den%26sa%3DN%26start%3D60&amp;ei=5PfoSveOJaiWtgPOzqnVCA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nitedmask.com/Masks/images/old_man_mask.JPG&amp;imgrefurl=http://www.unitedmask.com/Masks/character.asp&amp;usg=__ZPYnW_MVmFSjOD4YnFy-RS88jDk=&amp;h=553&amp;w=423&amp;sz=52&amp;hl=en&amp;start=11&amp;sig2=JBYDVxKxsDjc1ApC3qFY2Q&amp;tbnid=-otoW4XBMQUnFM:&amp;tbnh=133&amp;tbnw=102&amp;prev=/images%3Fq%3Dmasks%2Bcharacters%26gbv%3D2%26hl%3Den%26sa%3DG&amp;ei=OvjoSqPcBYrssQO5mYjnCA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masks-wigs-and-costumes.com/Masks/images/lincoln_half_mask.JPG&amp;imgrefurl=http://www.masks-wigs-and-costumes.com/Masks/character.asp&amp;usg=__3UGk4XmI9x4wWZS2WKHXHZTZLuk=&amp;h=411&amp;w=375&amp;sz=38&amp;hl=en&amp;start=12&amp;sig2=gSs0bn-KfYSUzGR5whgyxQ&amp;tbnid=zscWNeyeuwGObM:&amp;tbnh=125&amp;tbnw=114&amp;prev=/images%3Fq%3Dmasks%2Bcharacters%26gbv%3D2%26hl%3Den%26sa%3DG&amp;ei=OvjoSqPcBYrssQO5mYjnCA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buycostumes.com/mgen/merchandiser/19439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95480" y="1066680"/>
            <a:ext cx="415296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sk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1573200" cy="182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809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86200"/>
            <a:ext cx="2928960" cy="2633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276640" cy="310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808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3363840" cy="35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685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Hallow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733920"/>
            <a:ext cx="2685960" cy="2685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334120" y="3124080"/>
            <a:ext cx="2857320" cy="264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6858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Masque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733920"/>
            <a:ext cx="214632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558720"/>
            <a:ext cx="2609640" cy="212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048120"/>
            <a:ext cx="1784520" cy="267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ul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057400"/>
            <a:ext cx="2373480" cy="30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3352680"/>
            <a:ext cx="2406600" cy="2638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457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8380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9810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1:51:39Z</dcterms:created>
  <dc:creator>Patrick J. Mooney</dc:creator>
  <dc:description/>
  <dc:language>en-US</dc:language>
  <cp:lastModifiedBy>Patrick J. Mooney</cp:lastModifiedBy>
  <dcterms:modified xsi:type="dcterms:W3CDTF">2009-10-29T02:24:47Z</dcterms:modified>
  <cp:revision>4</cp:revision>
  <dc:subject/>
  <dc:title>Slide 1</dc:title>
</cp:coreProperties>
</file>